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FE1-D241-4626-93A6-3A5B79DD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AA9-136E-4755-9379-DF38BB30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798-E848-4B4F-AE4F-987CBF1B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01B-5824-4120-9DCD-80A807E6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DABF-5E49-4544-B25F-D67B039A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2653-24C5-4D19-9AF9-9C328E30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6C27-B37B-449F-A0BB-638FC508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464-9972-423E-9A1A-B56DAA35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B921-B24F-46AB-BB9F-7507C0A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C23E-6B2A-48E8-AE12-25A2AF2C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2D46-92C1-461C-8A08-36F1BBB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E39-8C33-40D0-9685-149DFA4F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A4E4-2C50-4E96-94B5-A011A4F6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6B38-3864-4BD0-9C55-DFF01F44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DA11-85E2-4704-A5E0-BBA53696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81A5-574B-470A-AAFC-5CE0416D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D3C8-3324-4B65-92AA-9E552ABF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0C6-EE9E-4840-89EC-C166D7B9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488-7EA2-47ED-98AD-F5069D27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C1D-52CA-4C53-80FF-344AD855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C4A-A621-40AD-9CA3-48865097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E63-DFE5-4DA4-904A-5F379BC6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149-E9FD-4B72-B59B-49D13354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966-1834-4A76-B6FE-19388E8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7403-9B94-41D4-83A9-63AE1ECA10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F3F-FE87-4781-AF4A-A3620AC0B0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9.4 Areas of Regular Polyg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ebruary 6, 200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Definitio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associated with regular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lygons only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1" i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Center of a polygon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 – the center of its circumscribed circle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Radius of a polygon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 – the radius of its circumscribed circle, or the distance from the center to a vertex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Apothem of a polygon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 – distance from the center to any side of the polygon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343040" y="151920"/>
            <a:ext cx="4800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he center of circle A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he center of pentagon BCDEF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 radius of circle A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 radius of pentagon BCDEF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n apothem of pentagon BCDEF 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28800"/>
            <a:ext cx="3581640" cy="3505320"/>
          </a:xfrm>
          <a:prstGeom prst="ellipse">
            <a:avLst/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828800"/>
            <a:ext cx="3276360" cy="3200400"/>
          </a:xfrm>
          <a:prstGeom prst="pentagon">
            <a:avLst/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1371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3160" y="3047760"/>
            <a:ext cx="1600200" cy="53316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3581280"/>
            <a:ext cx="0" cy="1447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28954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77320" y="41911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54864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 of a regular polyg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The area of a regular polygon i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A = ½ Pa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rea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rimeter   apothem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43080" y="3354480"/>
            <a:ext cx="384480" cy="3016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410080" y="3428640"/>
            <a:ext cx="228600" cy="762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248160" y="3200040"/>
            <a:ext cx="1143000" cy="10666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ere does the equation come from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676520"/>
            <a:ext cx="3276720" cy="3352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apothem is the height of a triangle between the center and two consecutive vertices of the polygo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can find the area o any regular n-gon by dividing the polygon into congruent triang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1905120"/>
            <a:ext cx="3276720" cy="2895480"/>
          </a:xfrm>
          <a:prstGeom prst="hexagon">
            <a:avLst>
              <a:gd name="adj" fmla="val 2829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276720"/>
            <a:ext cx="76320" cy="759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34320" y="190512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32767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934320" y="2666880"/>
            <a:ext cx="121896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274320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077320" y="2819160"/>
            <a:ext cx="152280" cy="75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523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3124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800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800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3276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1600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181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xagon ABCDEF with center G, radius GA, and apothem 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 1:  A regular octagon has an apothem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f 4 in.  Side length is 3.  Find its area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133720"/>
            <a:ext cx="3733560" cy="3581280"/>
          </a:xfrm>
          <a:prstGeom prst="octagon">
            <a:avLst>
              <a:gd name="adj" fmla="val 29287"/>
            </a:avLst>
          </a:prstGeom>
          <a:solidFill>
            <a:srgbClr val="33cc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11480" y="2128680"/>
            <a:ext cx="758880" cy="1828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09680" y="2666520"/>
            <a:ext cx="137160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928600">
            <a:off x="3123720" y="2514600"/>
            <a:ext cx="304920" cy="304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352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4495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½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5181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(24)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2971800"/>
            <a:ext cx="4191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 Fi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x 8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 Us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. 2:  Finding the area of a regular 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 regular pentagon is inscribed in a circle with a side length of 7.5 and an apothem of 5.2.  Find the area of the pentagon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1676520"/>
            <a:ext cx="2743200" cy="259056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076560" cy="308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5880" y="2971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4771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12408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1240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20749200">
            <a:off x="7164000" y="3041280"/>
            <a:ext cx="609480" cy="466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238880" y="3429000"/>
            <a:ext cx="2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1:40:37Z</dcterms:created>
  <dc:creator>Gateway_User</dc:creator>
  <dc:description/>
  <dc:language>en-US</dc:language>
  <cp:lastModifiedBy>falckj</cp:lastModifiedBy>
  <dcterms:modified xsi:type="dcterms:W3CDTF">2008-02-06T21:00:28Z</dcterms:modified>
  <cp:revision>16</cp:revision>
  <dc:subject/>
  <dc:title>11.2 Areas of Regular Polygons</dc:title>
</cp:coreProperties>
</file>